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278-B03D-4BBB-9685-4C387F39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7E1-8C2B-44BA-B240-03CA08F3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C1A-28D2-4BFC-9D3F-18B1CFC4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20E-01DB-4416-AB1D-13C2F2CA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1E8-1F54-4A20-B34E-2F91F947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594-8D53-43A8-8C20-B745BB67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C77-1E01-415F-9822-0D9A1812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358-6C9A-4D3A-8963-066CB245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F5D-82A8-4CC0-B76F-23C65B41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DFF-8999-407E-9E9C-C4DE817B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14F-F744-4529-B740-0200BD55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E5E-0B14-4F01-8F73-D5C3DEDC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B8FE-14B4-4C0B-971F-31BE2F4DD149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单片机内部存储器容量的限制，在单片机应用系统中，经常需要外扩程序存储器或者数据存储器。外部扩展的程序存储器可以用于复杂系统的程序代码的存储，而外部扩展的数据存储器可以用于保存采集或者传输的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常用的存储器为可读写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，包括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和动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两种。其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以其接口简单方便、读写速度快等优点，在单片机系统中得到广泛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特点以及常用的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这里还对串行通信接口进行了详细的介绍。本章通过一个具体的实例，讲解了如何通过计算机的串行通信接口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来实现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电路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160720"/>
            <a:ext cx="7696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程序设计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42674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25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运行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的程序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++ 6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开发，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面的程序设计不是本书的重点，这里不再具体介绍程序的设计步骤，用户可以参阅其它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介绍串口程序设计的书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软件的主要功能是选择特定的文件，并将其通过串行口发送给单片机，同时还可以接收单片机返回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种类和特点，并重点讲解了应用最为广泛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本章还对一款常用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了详细介绍。最后，通过一个综合的实例介绍了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。实例中使用了计算机的串行通信接口，以及单片机的串行接口设计。通过本章的讲解，读者可以掌握单片机系统中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以及计算机串行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是计算机或者单片机的记忆部件。微处理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执行的程序、处理的数据以及中间结果等都存放在存储器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常用的存储器芯片几乎全部采用半导体存储器。其有两个指标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容量，反映了存储记忆信息的多少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取时间，反映了工作速度的快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半导体存储器芯片根据应用可分为读写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只读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O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大类。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支持读和写的操作，因此应用十分广泛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又称随机存取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ndom Access Memory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它能够在存储器中任意指定的地方随时写入或读出信息；当电源掉电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里的内容即消失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存储单元的工作原理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又分为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触发器作为存储单元存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存取速度快，只要不掉电即可持续保持内容不变。一般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度较低，成本较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基本存储电路为带驱动晶体管的电容。电容上有无电荷状态被视为逻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随着时间的推移，电容上的电荷会逐渐减少，为保持其内容必须周期性地对其进行刷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电容充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维持其中所存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封装的引脚示意图，如图所示。该芯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内部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×8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的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265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引脚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和等来实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操作的逻辑功能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69627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读写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测控系统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常用于程序存储器和数据存储器。这里通过一个具体的实例，讲解如何使用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作为外部数据存储器，以及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测控领域，计算机的应用越来越广泛。使用计算机做远程控制、数据采集、数据处理等十分方便。计算机在完成这些任务的时候，需要和外部设备进行通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般的计算机上都集成有串行接口，可以采用串行接口和外部设备进行通信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也集成有一个全双工的串行异步通信接口，因此，在本实例中采用单片机作为桥梁，实现计算机和外部设备的通信，并完成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这里，我们通过计算机读写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，这里单片机作为计算机与外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通信的桥梁。这个例子，涉及知识面比较广。其中用到单片机串行接口的设计、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的读写、计算机串行接口设计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首先介绍一下整个系统设计的框架，如图所示。其中上位机，即计算机，需要将一批数据保存到外部的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。上位机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通过串行通信接口相连，单片机在读写外部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时，采用并行接口方式读写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个系统的数据流向是，上位机将数据通过串行通信接口逐个发送给单片机，单片机接收到数据后，将数据依次写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存储单元，直至写满。当数据发送完毕后，计算机再将数据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读取出来，并送回上位机，以验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数据的正确性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37432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接口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计算机以及绝大多数的测控设备中都配备有异步串行通信接口，主要包括以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本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增强型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4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85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流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此，通过这些标准接口，能够方便地将单片机和外部测控设备、计算机或测量仪器等连接起来，构成一个完整的控制、通信系统。下面分别介绍这几种接口标准，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最常用的，本章实例将使用该接口标准和单片机进行通信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与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接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中需要采用单片机作为数据通信的桥梁。前面介绍过计算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电平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5V~+1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由于单片机的接口电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，因此单片机与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串行接口（例如计算机）进行通信的时候，首先要解决的便是电平转换的问题。一般来说，可以选择一些专用的集成电路芯片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单向的串行数据传输，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，也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。这些芯片只能实行单方向的电平转换，并且使用时需要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±12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源电压，这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电的单片机系统来说，不是很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7:43Z</dcterms:created>
  <dc:creator>cheng</dc:creator>
  <dc:description/>
  <dc:language>en-US</dc:language>
  <cp:lastModifiedBy>cheng</cp:lastModifiedBy>
  <dcterms:modified xsi:type="dcterms:W3CDTF">2008-10-13T08:57:02Z</dcterms:modified>
  <cp:revision>2</cp:revision>
  <dc:subject/>
  <dc:title>第31章  静态RAM存储器应用</dc:title>
</cp:coreProperties>
</file>